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D194-AE85-4610-8E32-D2BA84E3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3E3C-78CE-4919-B960-122E07F1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845D-1596-4D85-8112-44B5E410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486B-7419-411F-BE4D-EC32EF52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7CE7-66CB-4729-863A-5C6B41C2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C7F4-5ECB-48ED-B16F-78EABE12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2D24-6DEE-4648-AF79-B395A1A9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96BA-1849-4D97-8172-129591F1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F59F-24BB-44FD-847C-1469E006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5326-DC9F-4306-9BE4-171B7B75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712C-E120-42C0-9BC5-B99D4E42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A56E-7831-4F97-A5F1-1056A051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74A5-1736-4A9B-83C7-7F4BBD57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3A55-1355-4FF9-9E06-0D90F1DB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6DC4-AEB2-4549-9CE8-AD65EA22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6297-6A5E-406A-A8E1-05FA568B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8CE1-A878-4FCF-A868-91D34027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2AA0-F710-4B19-AE9E-BB7888CE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3747-384C-4155-930B-847B1CEA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15D6-9525-42B1-84D2-1424D410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A5DB-26B0-4CFB-98CC-AD500115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ECE6-72D9-4046-B9B9-F2794C70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530A-1C9C-4B5A-9CC6-4CB7BAAE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BB7D-01EA-40EA-B835-36FFD97A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F92E-AE57-4DDB-A67D-6D46838874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4E7E-D930-4B5D-A4F6-9DD90ADA60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Vocabular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 Gonzal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-2-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- electronic mail which allows individuals with an account to send messages to another person with an        e-mail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C- internet relay chat was developed in 1988 by Jarkko Oikarinen and allows instant online communicating with someone else back and fo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BS- bulletin board service allows a user to participate in a discussion group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4-5-6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- hypertext transfer protocol is used for handling the transmission of pages between a web server and a web brow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TP- file transfer protocol is used to rapidly transfer fi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NET- a program used on networks such as the internet to allow users to remotely log on to a server on the net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7-8-9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PHER- one of the first widespread internet browsing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ANET- a network used by a single organization and only accessible by authorized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WALL- a network security system that prevents unauthorized network ac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-11-1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ANET- an extended intranet that provides various level of access to authorized members of the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PROFILING- a marketing technique that collects online data about consum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KIES- small files that contain information about the web site an individual has visit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3-14-15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NET- a collection of servers that offer Netne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DWIDTH- the amount of data and the speed at which the data can travel over the transmission med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- a computer that accesses a server to request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6-17-18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L- digital subscri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ERNET- a widely used protocol for Lans that uses a bus or star topology and connects the network devices by twisted-pair wiring, coaxial cable, or fiber optic c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IQUETTE- the etiquette that should be followed when using a network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-20-2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- a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LOGY- the logical arrangement of the nodes on a net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RELESS NETWORKS- a type of network that does not require the used of c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2-23-2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INTERFACE CARD- a circuit board that goes into the base unit of a computer or other device in a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P- internet service provider is a company that offers access to the internet for a f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- a series of related web p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35:27Z</dcterms:created>
  <dc:creator>046student</dc:creator>
  <dc:description/>
  <dc:language>en-US</dc:language>
  <cp:lastModifiedBy>046student</cp:lastModifiedBy>
  <dcterms:modified xsi:type="dcterms:W3CDTF">2009-04-16T15:25:47Z</dcterms:modified>
  <cp:revision>5</cp:revision>
  <dc:subject/>
  <dc:title>Vocabulary</dc:title>
</cp:coreProperties>
</file>